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6EF2-AEFC-4ECB-B4DC-CEFAFD25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67D-128E-4636-AF9E-CAD7CF35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D448-F797-443F-BA84-8440F09F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C84C-C4B5-4A94-A8CB-4ACD346D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A67-D196-4B07-814E-A2CFBF74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8A0-69A0-4814-A236-CDBE8C09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4198-D391-4382-85CD-D2E3A7E6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FE69-F0EF-49BA-B85D-4E51F3DB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FF3-7BCE-46ED-A641-B252AE1E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CEE-201C-44AA-9668-F280E2A3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DA99-9BEA-4351-8605-A9F2D50A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0FE9-40AE-42A5-A99B-8C8FBFC6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F8C3-CF64-45D5-BDF4-42E8625ABD9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أنا ما بستحي فيك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ا ما بستحي في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قدّام الكلّ بغنّي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م قدّملك هالغنّيه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تبتا ولحّنتلّك هيّ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 رح غنيّها لكلّ الناس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رقّة وحنّية واحساس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ا هالشبّ البستح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لو بستحي بين الناس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كن ما بستحي في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 إنت حبي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ا في غيرك بالدني حبيب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 إنت نصي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شو في أحلى من هيكِ نصيب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 لمّا بوقع بالمخاطر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ين غيرك حدّي قريب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 بشوفك يا ربّي ناطر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ما بتتعب لا ما بتغيب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حدك ربّي السامع صوت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مّا بشرب مرّ الكاس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ا هالشبّ البستح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لو بستحي بين الناس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كن ما بستحي في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-</cp:lastModifiedBy>
  <dcterms:modified xsi:type="dcterms:W3CDTF">2003-01-01T11:57:44Z</dcterms:modified>
  <cp:revision>13</cp:revision>
  <dc:subject/>
  <dc:title>Slide 1</dc:title>
</cp:coreProperties>
</file>